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7EA-A764-491C-813B-EB21EFF5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8120" y="2101680"/>
            <a:ext cx="776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8120" y="4251240"/>
            <a:ext cx="776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C28-BB8E-4289-87EB-1247C92B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8120" y="2101680"/>
            <a:ext cx="379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8120" y="4251240"/>
            <a:ext cx="379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3469-E3B3-4F60-B2D3-CF4726B2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8120" y="2101680"/>
            <a:ext cx="250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1600" y="2101680"/>
            <a:ext cx="250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8120" y="4251240"/>
            <a:ext cx="250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1600" y="4251240"/>
            <a:ext cx="250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675-10DD-4E24-9056-7EBA08F8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57DB-819F-4C0B-83A8-39F54E71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8120" y="21016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CC20-2A6A-4AFA-BC21-EC67D871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1016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728E-A021-4E0F-877D-5BDAE3A0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8120" y="2101680"/>
            <a:ext cx="37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F041-4A09-44CA-BC6D-55785A41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7753-87AA-473C-BACE-438204FC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8120" y="837720"/>
            <a:ext cx="776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9570-C0F7-486F-A04B-1DB7F27A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8120" y="2101680"/>
            <a:ext cx="379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8120" y="4251240"/>
            <a:ext cx="379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2C62-6F7A-4304-BFC4-7F58778F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8120" y="21016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5615-A158-4BF3-88E0-925E19D2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8120" y="2101680"/>
            <a:ext cx="37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E107-3C6D-4678-9ADE-539D5B24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101680"/>
            <a:ext cx="379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51240"/>
            <a:ext cx="776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AE24-F979-4B91-8603-DDEFBBD3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8120" y="2101680"/>
            <a:ext cx="776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8120" y="4251240"/>
            <a:ext cx="776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36EC-12A9-49CE-9B42-870C17BA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8120" y="2101680"/>
            <a:ext cx="379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8120" y="4251240"/>
            <a:ext cx="379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B200-34C9-48CC-A55D-E49859D4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8120" y="2101680"/>
            <a:ext cx="250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1600" y="2101680"/>
            <a:ext cx="250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8120" y="4251240"/>
            <a:ext cx="250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1600" y="4251240"/>
            <a:ext cx="250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0F30-1A27-46E3-9F20-1347337A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8120" y="21016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3F8D-0E33-4079-9F65-BAEBAFEF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8120" y="2101680"/>
            <a:ext cx="37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7108-0209-4D19-B0F5-EEC3C197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9C6F-2D77-48B5-91B6-93783DB5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8120" y="837720"/>
            <a:ext cx="776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A878-D891-4F22-AC0E-BBBFBEDC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8120" y="2101680"/>
            <a:ext cx="379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8120" y="4251240"/>
            <a:ext cx="379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918-8FAB-42A3-A142-852667F3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8120" y="2101680"/>
            <a:ext cx="37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96B-504C-41B2-A7E5-420E23DA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8120" y="2101680"/>
            <a:ext cx="379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8120" y="4251240"/>
            <a:ext cx="7769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8D36-ABEA-49AE-81E0-F7443A0D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64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5760" y="0"/>
            <a:ext cx="122076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57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8120" y="6413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30480" y="0"/>
            <a:ext cx="79135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6360" y="457200"/>
            <a:ext cx="251316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93BD-CAE0-41C9-8612-FCB68E00248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8120" y="21016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72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2640" y="632448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16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6960-9993-4EB3-AD30-C62670C39F5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51640" y="-9867960"/>
            <a:ext cx="1447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369280" cy="54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Педагогический         консилиум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a3d7a"/>
                </a:solidFill>
                <a:latin typeface="Times New Roman"/>
              </a:rPr>
              <a:t>«</a:t>
            </a:r>
            <a:r>
              <a:rPr b="1" i="1" lang="en-US" sz="6600" spc="-1" strike="noStrike">
                <a:solidFill>
                  <a:srgbClr val="2a3d7a"/>
                </a:solidFill>
                <a:latin typeface="Times New Roman"/>
              </a:rPr>
              <a:t>Адаптационный 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2a3d7a"/>
                </a:solidFill>
                <a:latin typeface="Times New Roman"/>
              </a:rPr>
              <a:t>                      </a:t>
            </a:r>
            <a:r>
              <a:rPr b="1" i="1" lang="en-US" sz="6600" spc="-1" strike="noStrike">
                <a:solidFill>
                  <a:srgbClr val="2a3d7a"/>
                </a:solidFill>
                <a:latin typeface="Times New Roman"/>
              </a:rPr>
              <a:t>период 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1" i="1" lang="en-US" sz="6600" spc="-1" strike="noStrike">
                <a:solidFill>
                  <a:srgbClr val="2a3d7a"/>
                </a:solidFill>
                <a:latin typeface="Times New Roman"/>
              </a:rPr>
              <a:t>в 5 классе</a:t>
            </a:r>
            <a:r>
              <a:rPr b="0" lang="en-US" sz="6600" spc="-1" strike="noStrike">
                <a:solidFill>
                  <a:srgbClr val="2a3d7a"/>
                </a:solidFill>
                <a:latin typeface="Times New Roman"/>
              </a:rPr>
              <a:t>»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0">
              <a:spcBef>
                <a:spcPts val="16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Стрелка вниз 4"/>
          <p:cNvSpPr/>
          <p:nvPr/>
        </p:nvSpPr>
        <p:spPr>
          <a:xfrm rot="4452600">
            <a:off x="7111800" y="4321080"/>
            <a:ext cx="1301760" cy="1784520"/>
          </a:xfrm>
          <a:prstGeom prst="downArrow">
            <a:avLst>
              <a:gd name="adj1" fmla="val 50000"/>
              <a:gd name="adj2" fmla="val 33954"/>
            </a:avLst>
          </a:prstGeom>
          <a:solidFill>
            <a:srgbClr val="c9dd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4 из 9 педагогов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Прямоугольник 6"/>
          <p:cNvSpPr/>
          <p:nvPr/>
        </p:nvSpPr>
        <p:spPr>
          <a:xfrm>
            <a:off x="900000" y="4365720"/>
            <a:ext cx="5616720" cy="1313640"/>
          </a:xfrm>
          <a:prstGeom prst="rect">
            <a:avLst/>
          </a:prstGeom>
          <a:solidFill>
            <a:srgbClr val="fac164"/>
          </a:solidFill>
          <a:ln w="284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Испытывают  доверие к педагогу.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Могут обратиться к педагогу за помощью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Могут поделиться своими радостям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Picture 4" descr="21418"/>
          <p:cNvPicPr/>
          <p:nvPr/>
        </p:nvPicPr>
        <p:blipFill>
          <a:blip r:embed="rId1"/>
          <a:stretch/>
        </p:blipFill>
        <p:spPr>
          <a:xfrm>
            <a:off x="596880" y="836640"/>
            <a:ext cx="2062080" cy="2592360"/>
          </a:xfrm>
          <a:prstGeom prst="rect">
            <a:avLst/>
          </a:prstGeom>
          <a:ln w="0">
            <a:noFill/>
          </a:ln>
        </p:spPr>
      </p:pic>
      <p:sp>
        <p:nvSpPr>
          <p:cNvPr id="128" name="Стрелка вниз 2"/>
          <p:cNvSpPr/>
          <p:nvPr/>
        </p:nvSpPr>
        <p:spPr>
          <a:xfrm flipV="1" rot="8031000">
            <a:off x="3121920" y="2545560"/>
            <a:ext cx="1293840" cy="1612800"/>
          </a:xfrm>
          <a:prstGeom prst="downArrow">
            <a:avLst>
              <a:gd name="adj1" fmla="val 50000"/>
              <a:gd name="adj2" fmla="val 30874"/>
            </a:avLst>
          </a:prstGeom>
          <a:solidFill>
            <a:srgbClr val="c9dd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 из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 уч-с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9" name="Picture 5" descr="trebovanya"/>
          <p:cNvPicPr/>
          <p:nvPr/>
        </p:nvPicPr>
        <p:blipFill>
          <a:blip r:embed="rId2"/>
          <a:stretch/>
        </p:blipFill>
        <p:spPr>
          <a:xfrm>
            <a:off x="6800760" y="2060640"/>
            <a:ext cx="1940040" cy="2162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8120" y="188640"/>
            <a:ext cx="7769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СТЕПЕНЬ ОБУЧЕННОСТ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8120" y="836640"/>
            <a:ext cx="7769160" cy="53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оказатели СОУ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b5249"/>
                </a:solidFill>
                <a:uFillTx/>
                <a:latin typeface="Times New Roman"/>
              </a:rPr>
              <a:t>1 уровень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– до 4%: это “различение” (распознавание) или уровень знакомства (низшая степень обученности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b5249"/>
                </a:solidFill>
                <a:uFillTx/>
                <a:latin typeface="Times New Roman"/>
              </a:rPr>
              <a:t>2 уровень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– до 16%: это “запоминание” (учащийся может пересказать содержание текста, правила, воспроизвести формулировку того или иного закона, ответить на вопросы репродуктивного плана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b5249"/>
                </a:solidFill>
                <a:uFillTx/>
                <a:latin typeface="Times New Roman"/>
              </a:rPr>
              <a:t>3 уровень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– до 30%: это “понимание” (учащийся может воспроизвести формулировку закона, сможет объяснить его и привести примеры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b5249"/>
                </a:solidFill>
                <a:uFillTx/>
                <a:latin typeface="Times New Roman"/>
              </a:rPr>
              <a:t>4 уровень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– до 64%: это простейшие умения и навыки (репродуктивный уровень, закрепленные способы применения знаний в практической деятельности)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5 уровень – до 100% ; Это перенос и применение знаний в незнакомой ситуаци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8120" y="691920"/>
            <a:ext cx="7769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Times New Roman"/>
              </a:rPr>
              <a:t>СОУ по итогам первой четверт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16000" y="1413000"/>
          <a:ext cx="7721640" cy="4835160"/>
        </p:xfrm>
        <a:graphic>
          <a:graphicData uri="http://schemas.openxmlformats.org/drawingml/2006/table">
            <a:tbl>
              <a:tblPr/>
              <a:tblGrid>
                <a:gridCol w="3659040"/>
                <a:gridCol w="1204920"/>
                <a:gridCol w="2857680"/>
              </a:tblGrid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СОУ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ЗУН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64%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ЗУН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Arial"/>
                        </a:rPr>
                        <a:t>Английский язык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38%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Понимани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58%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ЗУН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ЗУН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Природоведени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89%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Перенос знаний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88%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Перенос знаний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93%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Перенос знаний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769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СОУ по русскому языку  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8120" y="907920"/>
            <a:ext cx="776916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в 1-ой четверти 2009-2010 уч год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Сочинение – 25.09.09 – 39% - ЗУ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Словарный диктант – 18.09.09 – 0,59% - ЗУ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Диктант – 02.10.09 – 40 % - “запоминание”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Сочинение – 19.10.09 – 57% - ЗУ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онтрольная работа – 29.10.09 – 33% - «запоминание»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онтрольная работа – 11.11.09 – 44% - ЗУ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5b5249"/>
                </a:solidFill>
                <a:latin typeface="Times New Roman"/>
              </a:rPr>
              <a:t>СОУ по математике в 1-ой четверти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онтрольная работа – 30.09.09 – 59% - ЗУ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онтрольная работа – 14.11.09 – 52% - ЗУ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онтрольная работа – 27.11.09 – 71% - «Перенос»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Times New Roman"/>
              </a:rPr>
              <a:t>Для того, чтобы поддержать учащегося, необходимо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8120" y="21016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5b524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b5249"/>
                </a:solidFill>
                <a:latin typeface="Times New Roman"/>
              </a:rPr>
              <a:t>Опираться на сильные стороны ребенк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5b524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b5249"/>
                </a:solidFill>
                <a:latin typeface="Times New Roman"/>
              </a:rPr>
              <a:t>Избегать подчеркивания промахов ребенк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5b524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b5249"/>
                </a:solidFill>
                <a:latin typeface="Times New Roman"/>
              </a:rPr>
              <a:t>Внести юмор во взаимоотношения с ребенком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5b524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b5249"/>
                </a:solidFill>
                <a:latin typeface="Times New Roman"/>
              </a:rPr>
              <a:t>Проводить больше времени с ребенком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5b524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b5249"/>
                </a:solidFill>
                <a:latin typeface="Times New Roman"/>
              </a:rPr>
              <a:t>Принимать индивидуальность ребенк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5b524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b5249"/>
                </a:solidFill>
                <a:latin typeface="Times New Roman"/>
              </a:rPr>
              <a:t>Позволить ребенку самому решать проблемы там, где это возможно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5b524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b5249"/>
                </a:solidFill>
                <a:latin typeface="Times New Roman"/>
              </a:rPr>
              <a:t>Избегать дисциплинарных поощрений и наказани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380360" y="5445000"/>
            <a:ext cx="1547640" cy="1225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5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298222"/>
                </a:solidFill>
                <a:latin typeface="Times New Roman"/>
              </a:rPr>
              <a:t>Помните, что каждый ребенок несет в себе огромную мудрость, постарайтесь познать эту мудрость и использовать ее для взаимного духовного роста!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440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33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333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907920"/>
            <a:ext cx="82818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a3d7a"/>
                </a:solidFill>
                <a:latin typeface="Times New Roman"/>
              </a:rPr>
              <a:t>Удачи вам, </a:t>
            </a:r>
            <a:r>
              <a:rPr b="0" i="1" lang="en-US" sz="3600" spc="-1" strike="noStrike">
                <a:solidFill>
                  <a:srgbClr val="2a3d7a"/>
                </a:solidFill>
                <a:latin typeface="Times New Roman"/>
              </a:rPr>
              <a:t>сельские и городские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a3d7a"/>
                </a:solidFill>
                <a:latin typeface="Times New Roman"/>
              </a:rPr>
              <a:t>Уважаемые учителя!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Добрые, злые и никакие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Капитаны на мостике корабля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Удачи вам, дебютанты и асы.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Удачи! Особенно по утрам,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Когда вы входите в школьные классы.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Одни - как в клетку, другие - как в храм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Р.Рождественский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105264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33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200" spc="-1" strike="noStrike">
                <a:solidFill>
                  <a:srgbClr val="ff627c"/>
                </a:solidFill>
                <a:latin typeface="Times New Roman"/>
              </a:rPr>
              <a:t>Адаптация</a:t>
            </a:r>
            <a:r>
              <a:rPr b="0" i="1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– это приспособление строения и функций организма, его органов и  клеток к условиям среды, это постоянный процесс приспособления индивида к условиям социальной среды.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333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752480"/>
            <a:ext cx="7315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333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33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3060720"/>
            <a:ext cx="8426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d109ab"/>
              </a:buClr>
              <a:buFont typeface="Times New Roman"/>
              <a:buChar char="•"/>
              <a:tabLst>
                <a:tab algn="l" pos="8568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09ab"/>
                </a:solidFill>
                <a:latin typeface="Times New Roman"/>
              </a:rPr>
              <a:t>Смысл адаптационного периода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в школе состоит в том, чтобы сделать естественный процесс адаптации более интенсивным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568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d109ab"/>
              </a:buClr>
              <a:buFont typeface="Times New Roman"/>
              <a:buChar char="•"/>
              <a:tabLst>
                <a:tab algn="l" pos="8568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09ab"/>
                </a:solidFill>
                <a:latin typeface="Times New Roman"/>
              </a:rPr>
              <a:t>Цель адаптационного периода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помочь ребятам познакомиться друг с другом, с учителями, с новой учебной ситуацией, со школой и школьными правилами.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8524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990720"/>
            <a:ext cx="8604360" cy="370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27c"/>
                </a:solidFill>
                <a:latin typeface="Times New Roman"/>
                <a:ea typeface="Times New Roman"/>
              </a:rPr>
              <a:t> </a:t>
            </a:r>
            <a:r>
              <a:rPr b="0" i="1" lang="en-US" sz="4800" spc="-1" strike="noStrike">
                <a:solidFill>
                  <a:srgbClr val="ff627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ff"/>
                </a:solidFill>
                <a:latin typeface="Times New Roman"/>
              </a:rPr>
              <a:t>Представьте себя на месте ребят, пришедших в   5-ый класс. С какими трудностями могут встретиться дети?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83628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Условия адаптаци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8120" y="21016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b5249"/>
                </a:solidFill>
                <a:latin typeface="Times New Roman"/>
              </a:rPr>
              <a:t>Физиологические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4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Изменение режима дня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4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Необходимость игры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4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Правильная посадка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4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Организация правильного питания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4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Развитие двигательной активности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4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Воспитание самостоятельности и ответственности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4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сихологические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4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Психологический климат в семье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4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Самооценка ребенка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4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Самоценность ребенка для родителей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4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Формирование интереса к школе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4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Дружеское общение с одноклассниками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4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Недопустимость физического воздействия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4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Предоставление самостоятельности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4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Учет темперамента ребенка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4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Организация контроля за учебой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4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Поощрение за успехи и достижения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4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Моральное стимулирование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34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Развитие самоконтроля и самооценки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79640" y="494172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692280"/>
            <a:ext cx="8642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ff"/>
                </a:solidFill>
                <a:latin typeface="Times New Roman"/>
              </a:rPr>
              <a:t>Задачи  адаптационного 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ff"/>
                </a:solidFill>
                <a:latin typeface="Times New Roman"/>
              </a:rPr>
              <a:t>периода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659640" y="3284640"/>
            <a:ext cx="20178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ac164"/>
                    </a:gs>
                    <a:gs pos="100000">
                      <a:srgbClr val="ffff00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ac164"/>
                  </a:gs>
                  <a:gs pos="100000">
                    <a:srgbClr val="ffff00"/>
                  </a:gs>
                </a:gsLst>
                <a:lin ang="108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xit" presetID="4" presetSubtype="16">
                                  <p:stCondLst>
                                    <p:cond delay="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1981080"/>
            <a:ext cx="815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8520" y="765000"/>
            <a:ext cx="76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09ab"/>
                </a:solidFill>
                <a:latin typeface="Times New Roman"/>
              </a:rPr>
              <a:t>Задачи адаптационного периода для </a:t>
            </a:r>
            <a:r>
              <a:rPr b="1" lang="en-US" sz="2400" spc="-1" strike="noStrike" u="sng">
                <a:solidFill>
                  <a:srgbClr val="d109ab"/>
                </a:solidFill>
                <a:uFillTx/>
                <a:latin typeface="Times New Roman"/>
              </a:rPr>
              <a:t>пятиклассников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226520"/>
            <a:ext cx="856908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адаптация к «разноголосице» требований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учителей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введение самоконтроля (теперь нет постоянно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рядом классной «мамы»)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выявление (пояснение, понимание) позиции в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соответствии с ролью мальчика и ролью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девочки, а отсюда - акцент на полоролевое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взаимодействие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принятие новой позиции - ученик второй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ступени школы.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Times New Roman"/>
              </a:rPr>
              <a:t>Признаки успешной адаптации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8120" y="21016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Ребенок легко справляется с программо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Удовлетворенность ребенка процессом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Удовлетворенность межличностными отношениями – с одноклассниками и учителем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451640" y="5157720"/>
            <a:ext cx="1549440" cy="1244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8120" y="837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Признаки дезадаптации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8120" y="21016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imes New Roman"/>
              </a:rPr>
              <a:t>Усталый, утомлённый внешний вид ребёнк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imes New Roman"/>
              </a:rPr>
              <a:t>Нежелание ребёнка делиться своими впечатлениями о проведённом дн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imes New Roman"/>
              </a:rPr>
              <a:t>Стремление отвлечь взрослого от школьных событий, переключить внимание на другие темы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imes New Roman"/>
              </a:rPr>
              <a:t>Нежелания выполнять домашние зада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imes New Roman"/>
              </a:rPr>
              <a:t>Негативные характеристики в адрес школы, учителей, одноклассников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imes New Roman"/>
              </a:rPr>
              <a:t>Жалобы на те или иные события, связанные со школой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imes New Roman"/>
              </a:rPr>
              <a:t>Беспокойный со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imes New Roman"/>
              </a:rPr>
              <a:t>Трудности утреннего пробуждения, вял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imes New Roman"/>
              </a:rPr>
              <a:t>Постоянные жалобы на плохое самочувстви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1150920" cy="934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6084720" y="620640"/>
            <a:ext cx="2808360" cy="1920600"/>
          </a:xfrm>
          <a:prstGeom prst="rect">
            <a:avLst/>
          </a:prstGeom>
          <a:solidFill>
            <a:srgbClr val="00ffff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b5249"/>
                </a:solidFill>
                <a:latin typeface="Times New Roman"/>
              </a:rPr>
              <a:t>Предпочли бы не изучать предмет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русский язык – 1уч,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английский язык  - 1уч,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труд – 1уч, музыка – 1уч, математика – 1уч,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ИЗО – 1 ученик.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50920" y="3068640"/>
            <a:ext cx="2233440" cy="1983960"/>
          </a:xfrm>
          <a:prstGeom prst="rect">
            <a:avLst/>
          </a:prstGeom>
          <a:solidFill>
            <a:srgbClr val="cc99ff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5b5249"/>
                </a:solidFill>
                <a:latin typeface="Times New Roman"/>
              </a:rPr>
              <a:t>Педагог работает индивидуально с ребенком на уроке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английского языка –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3 ученика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156360" y="3141720"/>
            <a:ext cx="2736720" cy="2959920"/>
          </a:xfrm>
          <a:prstGeom prst="rect">
            <a:avLst/>
          </a:prstGeom>
          <a:solidFill>
            <a:srgbClr val="99ff66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b5249"/>
                </a:solidFill>
                <a:latin typeface="Times New Roman"/>
              </a:rPr>
              <a:t>Больше всего времени уходит на подготовку дом. заданий </a:t>
            </a: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по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: математике – 7уч,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русскому языку – 3уч, литературе -1уч, природоведению – 1уч, истории – 1уч,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англ яз –  6 уч</a:t>
            </a: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50920" y="189000"/>
            <a:ext cx="3168720" cy="2407320"/>
          </a:xfrm>
          <a:prstGeom prst="rect">
            <a:avLst/>
          </a:prstGeom>
          <a:solidFill>
            <a:srgbClr val="cccc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5b5249"/>
                </a:solidFill>
                <a:latin typeface="Times New Roman"/>
              </a:rPr>
              <a:t>Проявляют интерес к предмету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; 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математика – 7уч; природоведение – 3уч, ИЗО – 2уч, литература – 1уч, физкультура – 4уч, русский язык – 3уч, биология – 1уч, информатика – 1уч,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история – 1 уч               из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10 опрошенных учащихся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042920" y="5229360"/>
            <a:ext cx="4897440" cy="1496160"/>
          </a:xfrm>
          <a:prstGeom prst="rect">
            <a:avLst/>
          </a:prstGeom>
          <a:solidFill>
            <a:srgbClr val="cc99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b5249"/>
                </a:solidFill>
                <a:latin typeface="Times New Roman"/>
              </a:rPr>
              <a:t>Не чувствуют себя на уроке комфортно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: русс яз – 2уч, англ.   яз – 3уч, природоведение – 1уч, физкультура – 1, математика – 1, история – 1 учени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4572000" y="2492280"/>
            <a:ext cx="241200" cy="1373760"/>
          </a:xfrm>
          <a:prstGeom prst="rect">
            <a:avLst/>
          </a:prstGeom>
          <a:solidFill>
            <a:srgbClr val="ff0000"/>
          </a:solidFill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643280" y="4581360"/>
            <a:ext cx="0" cy="43200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Line 26"/>
          <p:cNvSpPr/>
          <p:nvPr/>
        </p:nvSpPr>
        <p:spPr>
          <a:xfrm flipH="1" flipV="1">
            <a:off x="3492360" y="2060640"/>
            <a:ext cx="503280" cy="504720"/>
          </a:xfrm>
          <a:prstGeom prst="line">
            <a:avLst/>
          </a:prstGeom>
          <a:ln w="57240">
            <a:solidFill>
              <a:srgbClr val="fac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Line 29"/>
          <p:cNvSpPr/>
          <p:nvPr/>
        </p:nvSpPr>
        <p:spPr>
          <a:xfrm flipH="1">
            <a:off x="3131640" y="3357720"/>
            <a:ext cx="576360" cy="360360"/>
          </a:xfrm>
          <a:prstGeom prst="line">
            <a:avLst/>
          </a:prstGeom>
          <a:ln w="57240">
            <a:solidFill>
              <a:srgbClr val="fac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Line 31"/>
          <p:cNvSpPr/>
          <p:nvPr/>
        </p:nvSpPr>
        <p:spPr>
          <a:xfrm flipV="1">
            <a:off x="5148360" y="2060640"/>
            <a:ext cx="647640" cy="504720"/>
          </a:xfrm>
          <a:prstGeom prst="line">
            <a:avLst/>
          </a:prstGeom>
          <a:ln w="57240">
            <a:solidFill>
              <a:srgbClr val="fac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Line 32"/>
          <p:cNvSpPr/>
          <p:nvPr/>
        </p:nvSpPr>
        <p:spPr>
          <a:xfrm>
            <a:off x="5435640" y="4005360"/>
            <a:ext cx="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Line 33"/>
          <p:cNvSpPr/>
          <p:nvPr/>
        </p:nvSpPr>
        <p:spPr>
          <a:xfrm>
            <a:off x="5364000" y="4005360"/>
            <a:ext cx="576360" cy="360360"/>
          </a:xfrm>
          <a:prstGeom prst="line">
            <a:avLst/>
          </a:prstGeom>
          <a:ln w="57240">
            <a:solidFill>
              <a:srgbClr val="fac1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4" name="Picture 4" descr="21418"/>
          <p:cNvPicPr/>
          <p:nvPr/>
        </p:nvPicPr>
        <p:blipFill>
          <a:blip r:embed="rId1"/>
          <a:stretch/>
        </p:blipFill>
        <p:spPr>
          <a:xfrm>
            <a:off x="3851280" y="2349360"/>
            <a:ext cx="1604880" cy="2033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7:30:00Z</dcterms:created>
  <dc:creator>123</dc:creator>
  <dc:description/>
  <dc:language>en-US</dc:language>
  <cp:lastModifiedBy>ВЕГА</cp:lastModifiedBy>
  <dcterms:modified xsi:type="dcterms:W3CDTF">2010-04-15T19:09:47Z</dcterms:modified>
  <cp:revision>102</cp:revision>
  <dc:subject/>
  <dc:title>Презентация PowerPoint</dc:title>
</cp:coreProperties>
</file>